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10F-8F23-4567-9013-EADC6DE6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1432-B637-4470-BD11-31BF1B0F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A40-20D5-44D1-AF5F-6C27213D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EF5A-CD41-43B5-A377-458060E2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88CF-F3F3-44D8-954F-561342A7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870A-2158-4279-B1C1-614C7311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31E6-D7B3-4A41-B5F3-0872D5A3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9D34-377E-4577-BE72-0ABABFA0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12C4-12BB-4D9A-B872-EF755A17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914F-AF0F-4A81-B8E6-6813D370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11A4-CF5F-4653-8ED2-A767CCF3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68C0-318A-43CF-877D-87B918CC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AFC8-6D0C-4B78-8BF4-045ADC7D3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EMPO GEO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L TIEMPO GEOLÓGICO SE MIDE POR LOS CAMBIOS,   Y LOS CAMBIOS OCURREN A DIFERENTES ESCALAS DE TIEMPO Y ESPA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BIDO QUE  LAS ROCAS  SON   ELLAS MISMAS   EL TESTIMONIO DE LOS CAMBIOS QUE OCURREN EN LA NATURALEZA,  SON ELLAS LAS QUE MARCAN EL PASO DEL TIEMPO GEOLÓG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ESTRO PLANETA TIENE UN VASTO  ARCHIVO  NATURAL  QUE REVELAN   LOS   EPISODIOS  DE LOS   NUMEROSOS   CAMBIOS  HABIDOS  EN  EL PAS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A INTERPRETACIÓN DE LAS ROCAS COMO PRODUCTO Y REGISTRO DE EVENTOS EN LA HISTORIA DE LA TIERRA, ESTÁ BASADA EN EL PRINCIPIO DEL UNIFORMITARIANISMO, QUE ESTABLECE QUE LAS LEYES  DE LA NATURALEZA  NO CAMBIAN CO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RADIOACTIVIDAD  ES UNA REACCIÓN  NUCLEAR ESPONTÁNEA,  CARACTERIZADA POR  LA  EMISIÓN  DE UNA RADIACIÓN  QUE CAMBIA LOS NUCLEOS.  EL NÚMERO DE PROTONES Y NEUTRONES  EN  EL NUCLEO CAMBIA  Y EL   ÁTOMO SE TRANSFORMA EN UN   ELEMENTO  DIFERENTE,  QUE PUEDE SER  E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DATACIONES RADIOMÉTRICAS SE BASAN  EN  EL DECAIMIENTO RADIOACTIVO DE  UN   ELEMENTO ISÓTOPO INESTABLE  (UN  ELEMENTO PUEDE TENER MUCHOS  ISÓTOPOS  DIFERENTES,  CADA UNO CON DIFERENTE NÚMERO DE NEUTRONES  E  IGUAL NÚMERO DE PROTONES,  PERO  NO TODOS  SON RADIOACTIV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uclidio inestable                                    nuclidio estable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padre radioactivo                                    hijo radiogénico</a:t>
            </a:r>
            <a:br>
              <a:rPr sz="2400"/>
            </a:b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ISÓTOPO PADR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ISÓTOPO H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19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TRANSFORMACIÓN DE UN  NUCLIDIO EN OTRO SE HACE POR CASUALIDAD; NO SE PUEDE  PREDECIR EL MOMENTO EN QUE ESTO SUCEDERÁ. EN ALGÚN MOMENTO LAS FUERZAS DE LIGAZÓN Y REPULSIÓN  NUCLEARES  NO ESTÁN  EN EQUILIBRIO,  SALE   UNA PARTÍCULA Y  DA ORIGEN A  UN  NUCLEO  E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ÁTOMO QUE SE DESINTEGRA ES EL PADRE RADIOACTIVO  (“ISÓTOPO PADRE”),  Y EL PRODUCTO QUE RESULTA ES EL HIJO RADIOGÉNICO (“ISÓTOPO HIJO”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181480"/>
            <a:ext cx="228600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5943600"/>
            <a:ext cx="213372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5410080"/>
            <a:ext cx="0" cy="38124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5334120"/>
            <a:ext cx="0" cy="38088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DA ISÓTOPO RADIOACTIVO SE DESINTEGRA  A UNA VELOCIDAD DETERMINADA,  QUE SE CONOCE COMO “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STANTE DE DESINTEGRACIÓN”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noción de desintegración:  duración de vida de un radio elemento).   EST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CONSTANTE DE DESINTEGR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NO ES AFECTADA POR NINGÚN  PROCESO FÍSICO  NI  QUÍMICO  CONOCIDO (se ha intentado modificarlo, pero sin éx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TIEMPO NECESARIO PARA LA DESINTEGRACIÓN  DE LA MITAD DE LOS ÁTOMOS  PADRES  SE CONOCE COMO “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ÍOD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DEL  RADIO  ELEMENTO  O 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“VIDA-MEDI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 UNA 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-MEDI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MITAD  DE LOS ÁTOMOS ORIGINALES DECAE; EN UNA SEGUND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MED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,  LA    MITAD  DE  LOS  ÁTOMOS   REMANENTES  DECAE  (UN CUARTO DE LOS ÁTOMOS ORIGINALES);  EN   UNA TERCER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MED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 LA MITAD  DEL CUARTO REMANENTE  DECAE,  Y ASÍ   SUCESIVAMENT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TIEMPO DE FORMACIÓN DE UN CRISTAL,  QUE CONTIENE UN ELEMENTO RADIOACTIVO, SE  PUEDE CALCULAR A PARTIR DE LA VELOCIDAD  CON QUE EL ELEMENTO  PARTICULAR  DECAE.  EN UNA REACCIÓN DE DECAIMIENTO SIMPLE,  LA CANTIDAD DE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SÓTOPO PADR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SE PUEDE COMPARAR CON LA CANTIDAD DE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SÓTOPO HIJ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UCHOS ISÓTOPOS DECAEN RÁPIDAMENTE,  PERDIENDO SU RADIOACTIVIDAD EN SÓLO   ALGUNOS  DÍAS  O  AÑOS,    PERO OTROS    DECAEN   MUY  LENTAMENTE  Y PUEDEN SER USADOS COMO  RELOJES  ATÓM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3657600"/>
            <a:ext cx="8610480" cy="28382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SÓTOPOS    RADIOACTIVOS    COMÚNMENTE    USADOS    EN    DATACIONES      ABSOLUTA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ranio-328                                  Plomo-206                                  4.5 billones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Uranio-235                                  Plomo-207                                 704 millone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Thorio-232                                  Plomo-208                                14.0 billones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Rubidio-87                                  Stroncio-87                              48.8  billone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Potacio-40                                   Argón_40                                 1.25 billones 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Carbono-14                                 Hidrógeno-14                            5,730     año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Hidrógeno-3                                Helio-3                                         12.3    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R E M I S A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OCER CON  PRECISIÓN  LA CONSTANTE  DE  DESINTE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OCER CON   PRECISIÓN   LA CANTIDAD   DE ISÓTOPOS    PADRES  E   ISÓTOPOS   H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  ROCA  DEBE TENER  UN    SISTEMA  GEOQUÍMICO CERRADO   (sin pérdida ni ganancia de   isótop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O  CONTENER  ISÓTOPOS   HIJOS   EN  EL MOMENTO  QUE  LA ROCA   SE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IEMPO DE FORMACIÓN   CORTO   RESPECTO  A  LA EDAD   DE  LA 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ÉTODO   DE   ACUMULACIÓN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anto mayor es el número de Isótopos Hijo, mayor es la edad de la roc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81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Rb / St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Período largo: 48.8  billons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b 87 (inestable)                                           St 87 (est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0 Ma              70 Ma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 K 40 /Ar 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5.000              50.000           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U 238 / PB 2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.5                   1 Ma      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362320"/>
            <a:ext cx="8380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24382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2590920"/>
            <a:ext cx="426708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886200"/>
            <a:ext cx="3808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3886200"/>
            <a:ext cx="91440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4038480"/>
            <a:ext cx="502920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5410080"/>
            <a:ext cx="30492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410080"/>
            <a:ext cx="121896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5791320"/>
            <a:ext cx="510516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ÉTODO   DE   DECAIMIENTO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antidad de isótopos es constante durante la vigencia del sistema.                     Se rompe el equilibrio y disminuye la cantidad de isótopo con el tiemp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MÉTODO  C 14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(continuamente   producido  en  la   estratósf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AYOS CÓSMICOS  COLISIONAN CON ÁTOMOS  EN  LA  ATMÓSFERA                              (se producen neutr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EUTRONES COLISIONAN CON ÁTOMOS DE  N 14                                                 (se producen  átomo de  C 14  +  1 prot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 ES  RADIOACTIVO Y  SE  DESINTEGRA     (vuelve a generar  N 14  +  1electr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REACCIONA CON OXÍGENO Y SE INTEGRA AL CICLO DEL C 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DIÓXIDO DE CARBONO ES ABSORVIDO POR LAS PLANTAS  (fotosíntesis) O DISUELTO EN AGUA )  Carbón Ordinario  =  C O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está comprometido con moléculas de gas carbónico  (C O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IENTRAS EL ANIMAL O PLANTA ESTÁN VIVOS, LA PROPORCIÓN DE  C 14 ES CONSTANTE  (generación y desintegración). CUANDO LA PLANTA O ANIMAL MUERE, SE ROMPE EL EQUILIBRIO Y EL C 14    NO   ES RENOVADO Y GRADUALMENTE  DECAE   a  N 14  (+ o - por  30.000 años)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ENORME  ABISMO DEL TIEMPO GEOLÓGICO FUE DECUBIERTO  EN  EDINBURGO, EN LOS AÑOS 1770,  POR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JAMES HUTTON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CAMBIANDO EL PENSAMIENTO CONVENCIONAL QUE EXISTÍA EN  ESOS DÍAS, CUANDO SE ACEPTABA QUE LA TIERRA TENÍA LA EDAD   DE 6000 AÑOS,  ESTABLECIDA  POR EL  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RZOBISPO  DE USHER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1581-1656)  A PARTIR  DE LA RECAPITULACIÓN  DE  LA CRONOLOGÍA BÍBLICA  (22 de octubre del 4004 A.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UTTON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OBSERVÓ, A LO LARGO DE LA COSTA DE ESCOCIA,  QUE CADA FORMACIÓN   ROCOSA,   SIN IMPORTAR SU EDAD,  ERA EL PRODUCTO DE LA EROSIÓN DE OTRAS ROCAS MAS ANTIGU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U DESCUBRIMIENTO MOSTRÓ QUE LAS RAICES  DEL TIEMPO ERAN  MUCHO MAS  PROFUNDAS  QUE  LO QUE   CUALQUIER OTRO HABÍA  SUPU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TIEMPO GEOLÓGICO ES CONTINUO, ESTO ES, NO TIENE INTERRUP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N EMBARGO, EN CADA SECUENCIA DE ROCAS O REGISTRO SE OBSERVAN   DISCONTINUIDADES MAYORES (“unconformities” o discordancias), QUE REVELAN INTERRUPCIONES  SIGNIFICATIVAS  DE  LOS  PROCESOS FORMADORES DE ROC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LGUNAS DE ESTAS INTERRUPCIONES  MAYORES,  O QUIEBRES EN LA CONTINUIDAD DE LA COLUMNA ESTRATIGRÁFICA,  SEPARAN FORMACIONES DE ROCAS DE EDADES MUY DISTINTAS,  ADEMÁS DE SER  LITOLÓGICA Y ESTRUCTURALMENTE  MUY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NTRE AMBAS FORMACIONES EXISTE UNA RELACIÓN DE CONTACTO DISCORDANTE, QUE SE CONOCE CON EL NOMBRE DE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 ANGULAR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EXISTENCIA DE UNA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 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MPLICA  ACEPTAR   LOS   EVENTOS   GE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GU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) formación de rocas ( estratific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b) plegamiento, metamorfismo o intr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) solevantamiento y erosión, que remueve la cobertura,  hasta exponer en la superficie la roca plegada, metamórfica o intrus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) subsidencia (hundimiento) y  depositación de rocas sedimentarias (mas jóvenes) sobre la superficie erod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) plegamiento, nuevo solevantamiento y ero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OTRO TIPO DE DISCONTINUIDAD ES  LA 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  EROSIÓN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(o “disconformity”),  DONDE NO HA HA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LEGAMIENTO PREVI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SUPERFICIE DE  ERO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S  PARA LELA  A  LOS ESTRA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 AMBAS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DADES REL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DETERMINAN  POR EL ORDEN CRONOLÓGICO DE LAS SECUENCIAS O DE LOS EVENTOS.   Los principios mas importantes que se aplican para determinar edades relativas son principios de marcada simplicidad y univers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) principio de SUPER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) principio de la SUCESIÓN FAUN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) principio de CORTE o de CONTACTO entre dos cuerpos de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) principio de las I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) principio de la SUCESIÓN  DE DESARROLLO  DEL  PAI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EDAD RELATIVA IMPLICA QUE NO SE DEDUCEN VALORES  CUANTITATIVOS  O  ABSOLUTOS DE TIEMPO. SÓLO SE DEDUCE QUE UN EVENTO OCURRIÓ MAS TEMPRANO O MAS TARDE QUE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 COLUMNA GEOLÓGICA  STA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ANDO LOS PRINCIPIOS DE EDADES RELATIVAS, SE HAN  DETERMINADO  SECUENCIAS  CRONOLÓGICAS DE ROCAS DE DIFERENTES REGIONES DEL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UEGO,  LAS SECUENCIAS DE LAS DIFERENTES PARTES DEL GLOBO SE   HAN  CORRELACIONADO  ENTRE  ELLAS,  BÁSICAMENTE  BASADO EN EL PRINCIPIO DEL CONTENIDO FAUNÍSTICO,  HASTA ESTABLECER   UNA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SCALA GEOLÓGICA STAND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 QUE SIRVE  COMO CALENDARIO PARA LA HISTORIA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icialmente se reconocieron las columnas en Europa, donde están bien expuestas,  y después se han correlacionado con otras de  todo el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UNIDADES DE ROCAS SE DISTINGUEN    UNA  DE OTRAS  POR CAMBIOS  MAYORES  EN  EL TIPO DE ROCA, DISCORDANCIAS, O ABRUPTOS CAMBIOS VERTICALES EN  EL CONTENIDO FAUNÍSTICO QUE   CONTIE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SUBDIVISIÓN ORIGINAL DE LA COLUMNA  ESTÁ  BASADA   EN LA SECUENCIA DE LAS  FORMACIONES ROCOSAS  EN  EL ORDEN DE SUPERPOSICIÓN EN QUE FUERON  ENCONTRADAS EN  EURO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N  LA ESCALA RELATIVA DEL TIEMPO GEOLÓGICO,  EL TIEMPO TRANSCURRIDO SE HA FRACCIONADO EN INTERVALOS CADA VEZ MENORES.  LOS  INTERVALOS  MAYORES SE LES DENOMINA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ONE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(Criptozoico y Fanerozoico); SUBDIVISIONES PROGRESIVANEBTRE MENORES SON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R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(ej. Paleozoico, Mesozoico., Cenozoico), LO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ÍODO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ej. Triásico, Jurásico, Cretácico),  Y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POC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EMPO ABSOL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TIEMPO ABSOLUTO DESIGNA UNA DURACIÓN ESPECÍFICA DE TIEMPO EN  UNIDADES DE HORAS, DÍAS O AÑOS.  EN GEOLOGÍA,  LARGOS  PERÍODOS  DE TIEMPO ABSOLUTO PUEDEN SER MEDIDOS POR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TACIONES RADIOMÉTRICA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TACIONES RADIOMÉTRIC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PROVEEN  UN MÉTODO PARA MEDIDAS DIRECTAS DE TIEMPO GEOLÓGICO,  EN TÉRMINOS DE NÚMEROS ESPECÍFICOS DE AÑOS  (datación absolu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DATACIONES ABSOLUTAS  HAN SIDO USADAS EXTENSIVAMENTE DURANTE LOS ÚLTIMOS  50 AÑOS,  PARA PROVEER UNA ESCALA DE TIEMPO ABSOLUTO PARA LOS EVENTOS DE LA HISTORIA DE LA TI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DATACIONES RADIOMÉTRICAS  SE   BASAN  EN EL PROCESO DE DESINTEGRACIÓN  RADIOACTIVA  QUE CARACTERIZA   A  ALGUNOS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ELEMENTOS ISÓTOPOS,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QUE SON  INESTABLES.     LOS ELEMENTOS  ISÓTOPOS  SON  ELEMENTOS  CON IGUALES  PROPIEDADES  FÍSICAS Y QUÍMICAS,  PERO CON DIFERENTE MASA ATÓ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PROPIEDADES DE UN DETERMINADO  ELEMENTO ESTÁN  DELIMITADAS   POR  EL NÚMERO DE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 PROTONE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EL NÚCLEO DE CADA ÁTOMO,  LO  QUE   DISTINGUE   A   ESE  ELEMENTO.   PERO,   NO OBSTANTE QUE  EL NÚMERO DE PROTONES EN CADA ÁTOMO ES CONSTANTE,  EL NÚMERO DE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NEUTRONE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PUEDE VARIAR,  LO QUE SIGNIFICA QUE EL  ÁTOMO  DE UN DETERMINADO  ELEMENTO PUEDE NO SER EXACTAMENTE IGUAL;     POSEE  LAS PROPIEDADES  DEL ELEMENTO   PERO TIENE  UNA  MASA  ATÓMICA    DIFER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LGUNOS  ELEMENTOS  ISÓTOPOS  SON  INESTABLES;                         SON  RADIOACTIVOS  NATURALES,  PRODUCIENDO  UN CAMBIO EN EL NÚMERO DE PROTONES,   DE MODO QUE EL ÁTOMO SE   TRANSFORMA EN  UN ELEMENTO DIFERENTE,  CON PROPIEDADES  FÍSICAS Y QUÍMICAS  DISTINTIV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7:21:33Z</dcterms:created>
  <dc:creator>Universidad de Chile</dc:creator>
  <dc:description/>
  <dc:language>en-US</dc:language>
  <cp:lastModifiedBy>postgrado</cp:lastModifiedBy>
  <cp:lastPrinted>2001-04-20T23:52:40Z</cp:lastPrinted>
  <dcterms:modified xsi:type="dcterms:W3CDTF">2001-09-06T17:14:49Z</dcterms:modified>
  <cp:revision>32</cp:revision>
  <dc:subject/>
  <dc:title>TIEMPO GEOLÓGICO</dc:title>
</cp:coreProperties>
</file>